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1AB-3DAC-4520-820B-88981337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29D-9593-4F6F-99D7-435338C7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B1E-9D6B-4431-9944-59B8285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42E-E0B3-4B91-892A-611BEBC6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2C8-2ACD-4B6A-9004-E2BB585F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1FB-D9CB-4FE1-AE46-2B12EB96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5E3-1757-4E62-BF60-30F6132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4E7-B699-4474-83A1-3A71FAF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BD3-7493-4A6A-8472-A476B5E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16B-E7DC-4B0F-B7D4-603D6D4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487-E03C-47E0-9D68-48AEF95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B3B-6D79-45BE-BC2F-6DD7B40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1160" indent="-371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309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39480" indent="-246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245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612-C8D6-4E32-9C0A-0950479733B9}" type="slidenum">
              <a:rPr b="0" lang="pt-BR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6"/>
          <p:cNvSpPr/>
          <p:nvPr/>
        </p:nvSpPr>
        <p:spPr>
          <a:xfrm>
            <a:off x="0" y="1928880"/>
            <a:ext cx="91440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1160" indent="-371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309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39480" indent="-246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245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34520" indent="-246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5786640" cy="146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5300" spc="-1" strike="noStrike">
                <a:solidFill>
                  <a:srgbClr val="0070c0"/>
                </a:solidFill>
                <a:latin typeface="Calibri"/>
                <a:ea typeface="Arial"/>
              </a:rPr>
              <a:t>[Nome do Projeto</a:t>
            </a:r>
            <a:r>
              <a:rPr b="1" lang="pt-BR" sz="6000" spc="-1" strike="noStrike">
                <a:solidFill>
                  <a:srgbClr val="0070c0"/>
                </a:solidFill>
                <a:latin typeface="Calibri"/>
                <a:ea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4629240" cy="17524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898989"/>
                </a:solidFill>
                <a:latin typeface="Calibri"/>
              </a:rPr>
              <a:t>[Breve descrição do Projeto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898989"/>
                </a:solidFill>
                <a:latin typeface="Calibri"/>
              </a:rPr>
              <a:t> </a:t>
            </a:r>
            <a:fld id="{E03D8A2A-57AF-4672-B6F6-8444B276177B}" type="datetime3">
              <a:rPr b="0" lang="pt-BR" sz="2000" spc="-1" strike="noStrike">
                <a:solidFill>
                  <a:srgbClr val="898989"/>
                </a:solidFill>
                <a:latin typeface="Calibri"/>
              </a:rPr>
              <a:t>31 de julho de 2026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898989"/>
                </a:solidFill>
                <a:latin typeface="Calibri"/>
              </a:rPr>
              <a:t>[Nome do Cana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Contexto e Motiv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Prazo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determinado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e conhecido de Início, Execução e Encerra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Utilizamos as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metodologias de gestão de projetos 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segundo as práticas recomendadas pelo PMI®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Todas as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etapas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de implantação serão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documentadas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e assinadas pelos usuários envolvidos, Patrocinadores, Gerentes de Projeto e Consultores de Implantaç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Contexto e Moti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quip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apéis 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Equipe do Proje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2920" y="1976400"/>
          <a:ext cx="8858160" cy="4084560"/>
        </p:xfrm>
        <a:graphic>
          <a:graphicData uri="http://schemas.openxmlformats.org/drawingml/2006/table">
            <a:tbl>
              <a:tblPr/>
              <a:tblGrid>
                <a:gridCol w="4786200"/>
                <a:gridCol w="2071800"/>
                <a:gridCol w="2000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rea/Dep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Contexto e Moti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Equip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apéis 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apéis e Responsabilida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7120" y="2643120"/>
            <a:ext cx="8429760" cy="32860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Patrocinador do projeto, normalmente quem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utorizou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a aquisi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Responsável pela aprovação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 solicitação de mudanças e aquisição de horas adiciona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verá participar da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reuniões de avaliação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verá ter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valiação de Performance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periodicamente do ges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ço Reservado para Conteúdo 3"/>
          <p:cNvSpPr/>
          <p:nvPr/>
        </p:nvSpPr>
        <p:spPr>
          <a:xfrm>
            <a:off x="361800" y="2000160"/>
            <a:ext cx="8429760" cy="571680"/>
          </a:xfrm>
          <a:prstGeom prst="rect">
            <a:avLst/>
          </a:prstGeom>
          <a:solidFill>
            <a:srgbClr val="007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Tahoma"/>
              </a:rPr>
              <a:t>Patrocinador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apéis e Responsabilida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7120" y="2643120"/>
            <a:ext cx="8429760" cy="32860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Principal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responsável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pelo proje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Elabora o Levantamento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Detalhado de Requerimentos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senha o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Escopo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a Implant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Elabora o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cronograma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e atividad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É responsável pelo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companhamento do consultor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 implant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Acompanha e analisa a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valiação de Performance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o projeto mensalmen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Realiza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visitas periódicas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urante o projeto no cliente, estabelecidas no cronograma para avaliar o and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ve ser convocado quando houver divergência no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ndamento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o proj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ço Reservado para Conteúdo 3"/>
          <p:cNvSpPr/>
          <p:nvPr/>
        </p:nvSpPr>
        <p:spPr>
          <a:xfrm>
            <a:off x="361800" y="2000160"/>
            <a:ext cx="8429760" cy="571680"/>
          </a:xfrm>
          <a:prstGeom prst="rect">
            <a:avLst/>
          </a:prstGeom>
          <a:solidFill>
            <a:srgbClr val="007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Tahoma"/>
              </a:rPr>
              <a:t>Gerente de Projeto /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apéis e Responsabilida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2643120"/>
            <a:ext cx="8429760" cy="32860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Será o profissional que acompanhará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todas as fases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o proje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Fará a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instalações, configurações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e documentos, e demais necessidade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do sistema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Será o responsável pelo processo de simulação e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validação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e todas a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etapas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o projeto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Controle de toda a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documentação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o proj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Conteúdo 3"/>
          <p:cNvSpPr/>
          <p:nvPr/>
        </p:nvSpPr>
        <p:spPr>
          <a:xfrm>
            <a:off x="361800" y="2000160"/>
            <a:ext cx="8429760" cy="571680"/>
          </a:xfrm>
          <a:prstGeom prst="rect">
            <a:avLst/>
          </a:prstGeom>
          <a:solidFill>
            <a:srgbClr val="007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Tahoma"/>
              </a:rPr>
              <a:t>Consultores de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apéis e Responsabilida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7120" y="2643120"/>
            <a:ext cx="8429760" cy="32860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Acompanhará o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treinamentos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os usuários chav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Acompanhará as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atividades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os usuários no sistem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Terá a visão geral de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todas as funcionalidades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o sistem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Principal contato Millennium 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durante o proje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Responsável pelo processo de </a:t>
            </a:r>
            <a:r>
              <a:rPr b="1" lang="pt-BR" sz="1800" spc="-1" strike="noStrike">
                <a:solidFill>
                  <a:srgbClr val="595959"/>
                </a:solidFill>
                <a:latin typeface="Calibri"/>
              </a:rPr>
              <a:t>Backup</a:t>
            </a: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 da Base de D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Conteúdo 3"/>
          <p:cNvSpPr/>
          <p:nvPr/>
        </p:nvSpPr>
        <p:spPr>
          <a:xfrm>
            <a:off x="361800" y="2000160"/>
            <a:ext cx="8429760" cy="571680"/>
          </a:xfrm>
          <a:prstGeom prst="rect">
            <a:avLst/>
          </a:prstGeom>
          <a:solidFill>
            <a:srgbClr val="007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Tahoma"/>
              </a:rPr>
              <a:t>Gestor de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apéis e Responsabilida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2643120"/>
            <a:ext cx="8429760" cy="32860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Provê suporte aos Gerentes de Projeto, com as melhores práticas e metodologias de trabalho, o material necessário para desempenhar o projeto de implantação como um tod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Acompanha a Performance do projeto de implantação do início ao f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Conteúdo 3"/>
          <p:cNvSpPr/>
          <p:nvPr/>
        </p:nvSpPr>
        <p:spPr>
          <a:xfrm>
            <a:off x="361800" y="2000160"/>
            <a:ext cx="8429760" cy="571680"/>
          </a:xfrm>
          <a:prstGeom prst="rect">
            <a:avLst/>
          </a:prstGeom>
          <a:solidFill>
            <a:srgbClr val="007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Tahoma"/>
              </a:rPr>
              <a:t>Escritório de 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tângulo com Único Canto Aparado 5"/>
          <p:cNvSpPr/>
          <p:nvPr/>
        </p:nvSpPr>
        <p:spPr>
          <a:xfrm>
            <a:off x="571680" y="285768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tângulo com Único Canto Aparado 6"/>
          <p:cNvSpPr/>
          <p:nvPr/>
        </p:nvSpPr>
        <p:spPr>
          <a:xfrm>
            <a:off x="571680" y="349236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tângulo com Único Canto Aparado 7"/>
          <p:cNvSpPr/>
          <p:nvPr/>
        </p:nvSpPr>
        <p:spPr>
          <a:xfrm>
            <a:off x="571680" y="412740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tângulo com Único Canto Aparado 5"/>
          <p:cNvSpPr/>
          <p:nvPr/>
        </p:nvSpPr>
        <p:spPr>
          <a:xfrm>
            <a:off x="571680" y="285768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tângulo com Único Canto Aparado 6"/>
          <p:cNvSpPr/>
          <p:nvPr/>
        </p:nvSpPr>
        <p:spPr>
          <a:xfrm>
            <a:off x="571680" y="349236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tângulo com Único Canto Aparado 7"/>
          <p:cNvSpPr/>
          <p:nvPr/>
        </p:nvSpPr>
        <p:spPr>
          <a:xfrm>
            <a:off x="571680" y="412740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Fases da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Seqüência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Fases da Impla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36440" y="1714680"/>
            <a:ext cx="9007560" cy="40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Fases da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Seqüência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Seqüência do Trabal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 u="sng">
                <a:solidFill>
                  <a:srgbClr val="595959"/>
                </a:solidFill>
                <a:uFillTx/>
                <a:latin typeface="Calibri"/>
              </a:rPr>
              <a:t>Planejamento &amp; Anál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Desenho do Esco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Elaboração do Cronogra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 u="sng">
                <a:solidFill>
                  <a:srgbClr val="595959"/>
                </a:solidFill>
                <a:uFillTx/>
                <a:latin typeface="Calibri"/>
              </a:rPr>
              <a:t>Constru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Identificar possíveis desvios no planej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justar o escopo inicialmente defin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Configuração do banco de d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Seqüência do Trabal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 u="sng">
                <a:solidFill>
                  <a:srgbClr val="595959"/>
                </a:solidFill>
                <a:uFillTx/>
                <a:latin typeface="Calibri"/>
              </a:rPr>
              <a:t>Testes &amp; Trein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Simulação dos processos treinados, com assinatura do docu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valiação do nível de absorção dos usu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Conhecer o cronograma para cumprir dias e hor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Executar tarefas logo após o trein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limentar Banco de d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 u="sng">
                <a:solidFill>
                  <a:srgbClr val="595959"/>
                </a:solidFill>
                <a:uFillTx/>
                <a:latin typeface="Calibri"/>
              </a:rPr>
              <a:t>Final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ceite Final, e Encerramento com document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Transição para o HelpDe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Fases da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Seqüência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Cronog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9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[Inserir Macro-Cronograma conforme figura abaixo: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7250040" cy="158436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tângulo com Único Canto Aparado 5"/>
          <p:cNvSpPr/>
          <p:nvPr/>
        </p:nvSpPr>
        <p:spPr>
          <a:xfrm>
            <a:off x="571680" y="285768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tângulo com Único Canto Aparado 6"/>
          <p:cNvSpPr/>
          <p:nvPr/>
        </p:nvSpPr>
        <p:spPr>
          <a:xfrm>
            <a:off x="571680" y="349236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tângulo com Único Canto Aparado 7"/>
          <p:cNvSpPr/>
          <p:nvPr/>
        </p:nvSpPr>
        <p:spPr>
          <a:xfrm>
            <a:off x="571680" y="412740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onto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Riscos Iniciais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Pontos Import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7120" y="2000160"/>
            <a:ext cx="8429760" cy="3929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Atente-se a quantidade de horas contratadas no pacote e a quantidade de licenças de uso do programa de processamento eletrônico de d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O horário de atendimento da Millennium é das 8h00 às 18h00 de segunda-feira a quinta-feira e das 8h00 às 17h00 às sextas-feiras. Atendimentos realizados fora deste período são passíveis de cobrança conforme nossa tabela de preços vigente com acréscimo de 60% (sessenta por cento) no valor do serviç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</a:rPr>
              <a:t>O cronograma firmado no início do projeto deve ser cumprido, a fim de garantir o sucesso do projeto, e a sua conclusão dentro do prazo previsto. Alterações de agenda, remarcações e cancelamento de visitas devem ser efetuadas com no mínimo 24 horas de antecedência, para que não haja impacto no andamento do proj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tângulo com Único Canto Aparado 5"/>
          <p:cNvSpPr/>
          <p:nvPr/>
        </p:nvSpPr>
        <p:spPr>
          <a:xfrm>
            <a:off x="571680" y="285768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tângulo com Único Canto Aparado 6"/>
          <p:cNvSpPr/>
          <p:nvPr/>
        </p:nvSpPr>
        <p:spPr>
          <a:xfrm>
            <a:off x="571680" y="349236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tângulo com Único Canto Aparado 7"/>
          <p:cNvSpPr/>
          <p:nvPr/>
        </p:nvSpPr>
        <p:spPr>
          <a:xfrm>
            <a:off x="571680" y="412740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onto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Riscos Iniciais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Riscos Iniciais do Proje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4200" y="194004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Falta de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Gestor exclusivo 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para o projet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Falta de comprometimento dos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Usuários chave 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e seus subordinad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Resistência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a troca do sistem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Falta de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processos definidos 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na empres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Troca/rotatividade de colaboradores durante o processo de implantaçã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Não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execução das tarefas 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passadas nos treinamentos e valida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Funções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dos colaboradores não definid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diantamento dos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treinamentos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e validaçõ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Ausência de </a:t>
            </a:r>
            <a:r>
              <a:rPr b="1" lang="pt-BR" sz="2000" spc="-1" strike="noStrike">
                <a:solidFill>
                  <a:srgbClr val="595959"/>
                </a:solidFill>
                <a:latin typeface="Calibri"/>
              </a:rPr>
              <a:t>Infra-Estrutura</a:t>
            </a:r>
            <a:r>
              <a:rPr b="0" lang="pt-BR" sz="2000" spc="-1" strike="noStrike">
                <a:solidFill>
                  <a:srgbClr val="595959"/>
                </a:solidFill>
                <a:latin typeface="Calibri"/>
              </a:rPr>
              <a:t> adequ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5300" spc="-1" strike="noStrike">
                <a:solidFill>
                  <a:srgbClr val="0070c0"/>
                </a:solidFill>
                <a:latin typeface="Calibri"/>
                <a:ea typeface="Arial"/>
              </a:rPr>
              <a:t>Questões e Dúvidas?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Noss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Millennium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Nossa Empre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396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Especializada no ramo de </a:t>
            </a: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Vestuário</a:t>
            </a: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 e </a:t>
            </a: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Mais de </a:t>
            </a: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500 clientes </a:t>
            </a: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em todo o Bra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Conteúdo 3"/>
          <p:cNvSpPr/>
          <p:nvPr/>
        </p:nvSpPr>
        <p:spPr>
          <a:xfrm>
            <a:off x="428760" y="3214800"/>
            <a:ext cx="4000320" cy="2428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Supreme Bol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Cordez Bol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Cecília 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Die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Opera R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Hope Ling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Espaço Reservado para Conteúdo 3"/>
          <p:cNvSpPr/>
          <p:nvPr/>
        </p:nvSpPr>
        <p:spPr>
          <a:xfrm>
            <a:off x="4714920" y="3214800"/>
            <a:ext cx="4000320" cy="2428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Domini / Goó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Contém 1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Curt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Barred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Morma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95959"/>
                </a:solidFill>
                <a:latin typeface="Calibri"/>
                <a:ea typeface="Tahoma"/>
              </a:rPr>
              <a:t>Disrit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Noss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Millennium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Millennium Bas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Produto em </a:t>
            </a: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plena expans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Fácil </a:t>
            </a: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aprendiz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Calibri"/>
              </a:rPr>
              <a:t>Recursos específicos </a:t>
            </a:r>
            <a:r>
              <a:rPr b="0" lang="pt-BR" sz="2400" spc="-1" strike="noStrike">
                <a:solidFill>
                  <a:srgbClr val="595959"/>
                </a:solidFill>
                <a:latin typeface="Calibri"/>
              </a:rPr>
              <a:t>para a indústria de Vestuário e 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tângulo com Único Canto Aparado 5"/>
          <p:cNvSpPr/>
          <p:nvPr/>
        </p:nvSpPr>
        <p:spPr>
          <a:xfrm>
            <a:off x="571680" y="285768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tângulo com Único Canto Aparado 6"/>
          <p:cNvSpPr/>
          <p:nvPr/>
        </p:nvSpPr>
        <p:spPr>
          <a:xfrm>
            <a:off x="571680" y="349236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tângulo com Único Canto Aparado 7"/>
          <p:cNvSpPr/>
          <p:nvPr/>
        </p:nvSpPr>
        <p:spPr>
          <a:xfrm>
            <a:off x="571680" y="4127400"/>
            <a:ext cx="8143560" cy="50004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Questões e R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ângulo com Único Canto Aparado 4"/>
          <p:cNvSpPr/>
          <p:nvPr/>
        </p:nvSpPr>
        <p:spPr>
          <a:xfrm>
            <a:off x="571680" y="2214720"/>
            <a:ext cx="8143560" cy="50004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tângulo com Único Canto Aparado 5"/>
          <p:cNvSpPr/>
          <p:nvPr/>
        </p:nvSpPr>
        <p:spPr>
          <a:xfrm>
            <a:off x="1643040" y="2857680"/>
            <a:ext cx="7072200" cy="436320"/>
          </a:xfrm>
          <a:prstGeom prst="pie">
            <a:avLst/>
          </a:prstGeom>
          <a:solidFill>
            <a:srgbClr val="ffffff">
              <a:alpha val="25000"/>
            </a:srgbClr>
          </a:solidFill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Calibri"/>
                <a:ea typeface="Tahoma"/>
              </a:rPr>
              <a:t>Contexto e Moti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tângulo com Único Canto Aparado 6"/>
          <p:cNvSpPr/>
          <p:nvPr/>
        </p:nvSpPr>
        <p:spPr>
          <a:xfrm>
            <a:off x="1643040" y="3429000"/>
            <a:ext cx="7072200" cy="43668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Equip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tângulo com Único Canto Aparado 7"/>
          <p:cNvSpPr/>
          <p:nvPr/>
        </p:nvSpPr>
        <p:spPr>
          <a:xfrm>
            <a:off x="1643040" y="4000680"/>
            <a:ext cx="7072200" cy="436320"/>
          </a:xfrm>
          <a:prstGeom prst="pie">
            <a:avLst/>
          </a:prstGeom>
          <a:noFill/>
          <a:ln w="28440">
            <a:solidFill>
              <a:srgbClr val="9696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Calibri"/>
                <a:ea typeface="Tahoma"/>
              </a:rPr>
              <a:t>Papéis 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23:23:02Z</dcterms:created>
  <dc:creator>Millennium Network</dc:creator>
  <dc:description/>
  <dc:language>en-US</dc:language>
  <cp:lastModifiedBy>Vinícius Esgalha</cp:lastModifiedBy>
  <dcterms:modified xsi:type="dcterms:W3CDTF">2010-02-22T19:14:43Z</dcterms:modified>
  <cp:revision>170</cp:revision>
  <dc:subject/>
  <dc:title>Template Apresentação Millennium</dc:title>
</cp:coreProperties>
</file>